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F647-FBE7-4C3A-ACC3-D97A1566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of fragile state of content knowledge for teaching by teachers with whom we and other steering team leads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focus on CKT-M; a new vision with a focus on the big ideas in PtoA; anc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 and continued need to support MoE’s sharpened focus on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year’s breakout sessions will now be interwoven throughout all sessions; these will support participants in their exploration of the big ideas and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interconnections among these critical learnings as enabled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ing to expos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ing to provide appropriate scaffolding and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lanning to embed student success indicators with framework for math campp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networks within and across boards will continue to grow leadership across the prov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ight of this year’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, a coaching dimension (specifically co-planning) will be embedded within the camppp.  This will provide participants with the opportunity to deepen their understanding of the big ideas and consider applications of DI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7EF-3C5A-4F03-B77F-4E4DF37B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EAD-2A68-4664-AFCD-B85E6E34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9BE-DA82-4962-BD12-E7DDF1BE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556-26D2-425D-B8AD-7408736B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22D-9A48-43E9-BCB5-5885D835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534-EF44-44E6-94D1-CE6565C9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AD9-344B-47DC-A41F-B5CA9F8F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D43-25FE-4A1D-B7CF-9E7DB352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325-51EB-4335-8113-7B9F35DF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4B4-E28D-4E89-94FD-B761197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272-3146-4289-B5CE-8E1E4F63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830-716F-4DBB-AE45-150702E9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15DF-03E6-4885-B578-2930E5374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95640" y="3122640"/>
            <a:ext cx="3205080" cy="3619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00" y="21985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1430280"/>
            <a:ext cx="183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3120" y="9619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voke and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416736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959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84720" y="258300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Differentiated Instruction through Ques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51360"/>
            <a:ext cx="16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3446640"/>
            <a:ext cx="30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5672160"/>
            <a:ext cx="20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21172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5211720"/>
            <a:ext cx="169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Engaging in Reflective Practice through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5240" y="1463760"/>
            <a:ext cx="29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01312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2185920"/>
            <a:ext cx="4140360" cy="4591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87300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ig Ideas of Number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A Focus on Proportional Rea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ion for Math CAMPPP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97360" y="2013120"/>
            <a:ext cx="169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eaching for Conceptual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657360"/>
            <a:ext cx="5616360" cy="6167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6:55:35Z</dcterms:created>
  <dc:creator>Information Systems</dc:creator>
  <dc:description/>
  <dc:language>en-US</dc:language>
  <cp:lastModifiedBy>Information Systems</cp:lastModifiedBy>
  <dcterms:modified xsi:type="dcterms:W3CDTF">2010-06-05T16:56:09Z</dcterms:modified>
  <cp:revision>1</cp:revision>
  <dc:subject/>
  <dc:title>Slide 1</dc:title>
</cp:coreProperties>
</file>